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64761C-D7F8-4C7D-A2F9-DEF60CAA23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451B04-E30C-4D09-9F3A-87AAD77CA5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7550F6-3521-45E9-9400-4E61E41B1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53440B-2971-489E-BCFB-C54BD967AC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1B1F0-6F34-4A3F-87E6-6D5D57EB7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E095BD-D46C-4E95-975B-A47C19487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E6B276-FEEE-4D3A-B024-76D49AA425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15CB4-40C4-408B-91AA-B8A275742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E2392-6F3F-42B6-9733-264448D42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33D6C-5235-4C34-8F50-96E5CCBE3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CB2ECA-F689-44B2-9014-E0F106B95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050CB5-A6D7-4308-AA4E-201785CD26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B359C-0E09-4DEF-9BFE-FB04426DC40E}"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FB540-9FAE-46E3-A934-5B3A3C4291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cotland.gov.uk/Publications/2003/08/18010/25301#Contents" TargetMode="External"/><Relationship Id="rId2" Type="http://schemas.openxmlformats.org/officeDocument/2006/relationships/hyperlink" Target="http://www.bustler.net/index.php/article/middle_school_students_win_school_of_the_future_design_contes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alibri"/>
              </a:rPr>
              <a:t>Future School Design</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ebastian Cline of the P21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5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sign of future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e classroom of the future and the P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learning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5E”</a:t>
            </a:r>
            <a:endParaRPr b="0" lang="en-US" sz="4400" spc="-1" strike="noStrike">
              <a:solidFill>
                <a:srgbClr val="000000"/>
              </a:solidFill>
              <a:latin typeface="Calibri"/>
            </a:endParaRPr>
          </a:p>
        </p:txBody>
      </p:sp>
      <p:sp>
        <p:nvSpPr>
          <p:cNvPr id="46"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5E” is the bases for my entire school design and learning program. The “5E” stands for: Education, Equality, Environment, Economy and Efficiency. These are important things that have often (especially now, in this day and age) played a part in our lives. So it makes perfect sense that they be the bases of education for children to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ducation stands for knowledge and understanding being taught through technology and interaction with the world. Students communicate with others around the world and have access to the internet to expand their knowledg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quality stands for equal rights and standards. The school is disability friendly and students are taught to respect/appreciate others and their opinion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vironment stands for respect and understanding for the planet that hosts us and the other life living on it. The school uses green energy wherever possible and students participate in field trips to learn about local wildlif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conomy stands for reasonably priced items while not sacrificing quality. Students learn how to make basic repairs of certain items used in school and at home to save money and help the environment by decreasing waste going into landfil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fficiency stands for students learning how to maximize their time and energy. Efficiency in teams and on their own will be an important skil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future schools</a:t>
            </a:r>
            <a:endParaRPr b="0" lang="en-US" sz="4400" spc="-1" strike="noStrike">
              <a:solidFill>
                <a:srgbClr val="000000"/>
              </a:solidFill>
              <a:latin typeface="Calibri"/>
            </a:endParaRPr>
          </a:p>
        </p:txBody>
      </p:sp>
      <p:sp>
        <p:nvSpPr>
          <p:cNvPr id="48"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my design for school of the future is very different in ways and very similar in others. The design is made up of interlocking blocks that are either a class, a group/traffic area or specialized.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 the center of the school there would be an open area with a small wind farm and gazebo surrounded by trees. Around the center there would be a race track for gym. Between each class there is a group/traffic area for dispersal of students and those connect to a hall on the inside of the classes and outside of the track. At the front of the school there is an office and staff/special room. The basement would have the gym, electronics room and cafeteria. On the roof there is a rooftop garden to teach students about nature and provide insulation. The school is wheel chair friendl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energy would be provided mainly trough the wind farm in the center and heat is controlled by geothermal. This makes the school eco- friendly.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de the classroom of the futur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class of the my design will be shaped like an amphitheater with a flat back. The students desks are mounted on wheels for easy moving for group work and solar panels on the desks hook up to the schools battery pack for more energy. On the desk there is a touch screen monitor and docking port for the PLD.  When plugged in to the PLD the monitor enlarges the PLD’s screen as well as having the ability to use and interact with the screen at the front when connected to the teachers laptop, the main “hub” of the class.</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the front of the class there is a screen made of flat white paint with a webcam on top for interclass disscusions which an electronic projector projects the teachers screen on to. The teacher and the students can use infrared lights to interact with the scree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        </a:t>
            </a:r>
            <a:r>
              <a:rPr b="0" lang="en-CA" sz="2200" spc="-1" strike="noStrike">
                <a:solidFill>
                  <a:srgbClr val="000000"/>
                </a:solidFill>
                <a:latin typeface="Calibri"/>
              </a:rPr>
              <a:t>The PLD is essentially an IPod touch 8g which has been modified for education purposes. It would allow students to communicate, take notes with ease, learn school at home and to carry a library in there pocket. The PLD also would have a neat program in it but that’s on the next 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ture learning methods</a:t>
            </a:r>
            <a:br>
              <a:rPr sz="4000"/>
            </a:b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n my school of the future there is a brand new method for teaching. All the required elements of the grade are all put into province made games or easy to learn format on the PLD. These “games” are constantly evaluated thus eliminating tests also every student has different variations so cheating is impossible. By the end of the school year the student must complete the necessary requirements but aside from knowing a pass or fail the student will not know until the end of the year there actual note. Weakening discrimination by intelligence leve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f the student finishes ahead of time they may either have free time or continue with the next grade. Through the year students go at there own pac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During certain days special activities will be either: group projects, special lessons i.e.: science experiment or community activities/volunteering. These together with good support at home should lead to a revolution in education that opens are children’s eyes to are amazing planet and prepares them for the world that awai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roof of cost efficiency:</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All prices are generalized prices from the internet not the cheapest or most expensive</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year= -school supplies 8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years= -school supplies and backpack 286$</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PLD= -at max 260$, lasts 4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years= -school supplies 1144$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LD 78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s save 364$!</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RM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hall= -145 math texts 942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science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English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5 social studies texts 48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8850$ in text books for one hall,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13100$ in text books for 6 halls,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class has 1 computer at 4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x400$=20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t’s 12000$ for the school not including the computer lab and resource roo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computer lab there are around 25 computers only 22 seem to work. That’s 10000$ in computers in the lab.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4 computers for the resource rooms or 96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for this school around 31600$ in computers 15 need fixing and in a few years they will all need replacing. These computers last about 5 years before replacements are bought.</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you add computer and text costs for 10 years worth of grades 6, 7, 8 you get around 1763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ture school cos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d R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onic projectors RMS have 20 we would need 32. A projector costs around 85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200$ for the required projecto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8400$for touch screen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900$ for 860 infrared ligh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95$ for 856 solar panel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ng 10000$ for repairs around 162995$ for 10 years worth of grades 6, 7, 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MS saves around 13305$ for 10 years worth of grades 6, 7, 8 plus some of the energy needs will be provided for more saving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ourc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1"/>
              </a:rPr>
              <a:t>http://www.scotland.gov.uk/Publications/2003/08/18010/25301#2</a:t>
            </a:r>
            <a:br>
              <a:rPr sz="1400"/>
            </a:br>
            <a:endParaRPr b="0" lang="en-US" sz="1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2"/>
              </a:rPr>
              <a:t>http://www.bustler.net/index.php/article/middle_school_students_win_school_of_the_future_design_contest/</a:t>
            </a:r>
            <a:br>
              <a:rPr sz="1400"/>
            </a:br>
            <a:r>
              <a:rPr b="0" lang="en-US" sz="1400" spc="-1" strike="noStrike">
                <a:solidFill>
                  <a:srgbClr val="000000"/>
                </a:solidFill>
                <a:latin typeface="Calibri"/>
              </a:rPr>
              <a:t>http://architecture.about.com/cs/socialconcerns/a/schooldesign.ht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architecture.about.com/od/schooldesign/ig/Winning-School-Designs/Teton-Valley-Community-School-.htm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         </a:t>
            </a:r>
            <a:r>
              <a:rPr b="0" lang="en-CA" sz="1400" spc="-1" strike="noStrike">
                <a:solidFill>
                  <a:srgbClr val="000000"/>
                </a:solidFill>
                <a:latin typeface="Calibri"/>
              </a:rPr>
              <a:t>and of course…</a:t>
            </a:r>
            <a:r>
              <a:rPr b="1" lang="en-CA" sz="2000" spc="-1" strike="noStrike" u="sng">
                <a:solidFill>
                  <a:srgbClr val="000000"/>
                </a:solidFill>
                <a:uFillTx/>
                <a:latin typeface="Calibri"/>
              </a:rPr>
              <a:t>WIKIPEDI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20:57:47Z</dcterms:created>
  <dc:creator>opus</dc:creator>
  <dc:description/>
  <dc:language>en-US</dc:language>
  <cp:lastModifiedBy>Nancy Matthews</cp:lastModifiedBy>
  <dcterms:modified xsi:type="dcterms:W3CDTF">2010-06-06T17:43:30Z</dcterms:modified>
  <cp:revision>96</cp:revision>
  <dc:subject/>
  <dc:title>Future School Design</dc:title>
</cp:coreProperties>
</file>